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23.gif" ContentType="image/gi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B0E-42D0-461C-ADD2-291E3840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28F-F086-4A17-913A-FDA88DB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E92-E892-49C6-B1B8-345EDE7B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A3A-62E4-4B96-9863-9D45F541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87F8-3644-4827-84C9-62B96DE5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E4EA-FA07-424B-A399-BD440525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442B-D465-4B7E-8601-BBAA364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E9E-2AEA-4E7F-84F4-D3C345F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D6F0-48A3-4C60-A18D-1C2A490F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D90-4EE7-499E-8071-B0189D1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C3E7-9565-4E26-9A7B-1C722FC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D4-1010-4829-AE3C-6E0A84E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B6DF-AFB7-46F6-9B44-54ABFEF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692-AA3E-4A9C-BA29-8DD722A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323-18E4-47CA-8053-4C6AA037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82C0-D9C1-4007-8AA3-5C02F296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8B7-7EE9-4D34-9B9B-1522622A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7152-E358-4049-BA63-78CE9A75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4C9A-A230-40B8-8AD5-E251D26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D93A-E806-4BE9-A9D5-BC6C714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FB05-3BE0-4543-A63F-24A0D07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2F6C-E59C-4BE4-9532-FE21CEB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DDA-183E-436C-8D33-71DE5E9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DCE5-15BB-4C5B-8BB3-C12A06F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5E9D-DF8D-4089-BBA3-40C123C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6895-30BF-4B71-9BC4-D7F6B5F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7036-C24F-4C47-9C5F-454850D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B92F-E3D0-4AD5-8CF7-B1B5EBC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C426-E14A-4870-B634-DC3E08B0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885C-99F7-4D2F-9D7B-CD21F4AC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81D6-F7D2-4339-9989-B9514209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A4B3-D6EB-42B2-AEA6-737EFBA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412A-2401-4D38-8357-4F7BE1E3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C16-8B4C-4BB4-9144-22BD1B7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B49D-B09C-4E72-975B-90A1BCE0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58E9-8180-4E5B-9AD0-D139AE76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6218-E556-4135-A2A8-B128B9F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1BEC-BEC1-4FD8-90AD-23F268C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B9C9-73DB-4803-922C-D5A4E46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FE9D-1C9E-4693-B153-4CB8D31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049B-D256-47FB-B562-E71FFCFC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2354-184D-41D1-835C-B698CB3D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4307-650F-4427-9A33-09187789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B06-6E8A-4722-8A69-7F25D91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CA4-8B6F-4142-B902-0DD63C5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884-157E-4762-84C6-DF0E007E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BE8-CC93-43C9-9068-EF3D728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26D-B091-408C-B3C3-BAB533A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DEF-F2A9-4F0C-BC77-784180262D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1006-E0EF-444D-A29E-B04714CA9F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509-AB2F-42D2-B02E-55BDFEAD18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DB4D-08E4-4925-BCFA-2CD05BE5B8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gallery.new-ecopsychology.org/ru/photo/common_toad_(bufo_bufo)-4.htm&apos;)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www.herpetofauna.at/amphibien/pelobates_fuscus.php&apos;)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karzes.best.vwh.net/barred_leaf_frog.html&apos;)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avascript:%20window.open(&apos;Dendrobates_4.html&apos;,&apos;Dendrobates_4&apos;,&apos;width=680,height=783,resizable=yes,scrollbars=yes,status=no,toolbar=no,menubar=no,left=0,top=0&apos;);%20void(0)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%20window.open(&apos;Dendrobates_6.html&apos;,&apos;Dendrobates_6&apos;,&apos;width=1044,height=720,resizable=yes,scrollbars=yes,status=no,toolbar=no,menubar=no,left=0,top=0&apos;);%20void(0)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gallery.new-ecopsychology.org/ru/photo/common_frog_(rana_temporaria)-2.htm&apos;)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www.gymnophiona.org/database/typhlonectidae/typhlonectes/natans/Typhlonectes1.jpg&apos;)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27428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удо-лапы бесхвостых амфиб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ечности бесхвостых земноводных созданы для активной жизнедеятельности как в воде, так и на суше. Их передние лапы совсем не похожи на лапы других четвероногих. Их и лапами-то никак не назовёшь: они больше напоминают детские ручонки! Но эти замечательные конечности помогают им не только передвигаться по земле, но и взбираться на деревья, рыть землю, строить гнёзда и многое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Жаба сер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28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ногие виды амфибий обладают способностью быстро закапываться в землю. Для этого они имеют на лапах специальные роговые мозоли. Так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чесночниц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elobates fuscus) ночью занимается охотой, а днём прячется в земле, закапываясь. Делает это она достаточно ловко: менее, чем за минуту она может полностью погрузиться в песок или рыхлую землю. Так эти животные пустынь поступают, в частности, каждое утро, прячась от иссушающего дневного зно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чесночница (Pelobates fuscu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68580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вакши филломедуз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hyllomedusa) способны противопоставлять на передних и задних лапках первые пальцы — остальным, совсем как обезьяны! Благодаря этому филломедузы легко обхватывают лапками ветки и очень крепко на них держатся. Любопытно, что и по всему образу жизни они напоминают обезьян ленивцев, проводя время в медленном и как бы ленивом перемещении по ветвям крон дерев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Филломедуза (Phyllomedusa tomoptern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86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 самц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ыкновенного тритон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Triturus vulgaris) не столь эффектен, но зато он умеет здорово танцевать перед своей невестой. Например, он вначале делает на дне стойку на голове и передних лапках — целых десять секунд! Потом переходит к динамичным акробатическим этюдам, включающим «танец хвоста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Малоазиатский тритон (Triturus vittatus)"/>
          <p:cNvPicPr/>
          <p:nvPr/>
        </p:nvPicPr>
        <p:blipFill>
          <a:blip r:embed="rId1"/>
          <a:stretch/>
        </p:blipFill>
        <p:spPr>
          <a:xfrm>
            <a:off x="685800" y="22860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ть среди амфибий и способ вынашивания детёнышей, аналогичный сумчатым млекопитающим. Так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суринамская пип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ipa pipa) и пипа Карвальо (Pipa carvalhoi) выращивают головастиков в ячеистой «сумке» на собственной сп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ки сумчатых квакш (Hemiphractinae) также вынашивают оплодотворённую икру в особом кожном кармане (сумке) на сп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Пипа Карвальо (Pipa carvalhoi)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Жаба с карма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15228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«Карманные» де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степенно икринки пипы американы оказываются в чем-то наподобие специальных кармашков с клапанами. В каждом таком шестигранном кармашке, имеющем глубину до пятнадцати миллиметров, помещается только одна икринка. Закрывающий клапан представляет собой кожистую крышечку диаметром пять-шесть миллиметров. Скрытый под этой крышечкой детеныш пипы суринамской проходит практически все стадии развития, вплоть до формирования маленького лягушонка. Так что головастиков пипы в природе встретить невозможно. Все необходимое в процессе развития питание детеныши получают через кожу матери — стенки, разделяющие спину на отдельные кармашки, насыщены питательными сосуд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сего на широкой материнской спине помещается от сорока до сотни с лишним "Лягушачьих яиц". Причем икра пипы американы очень крупная: к концу развития каждая икринка вырастает до шести-семи миллиметров в диаметре, а ее вес достигает трех с половиной граммов. Затем наступает длительный период вынашивания икры, во время которого пипа ведет себя совершенно спокойно и независимо. От момента спаривания до появления на свет первого лягушонка проходит восемьдесят два дн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цесс появления на свет маленьких пип также по-своему уникален. И еще, наверное, никому, кроме знаменитого Даррелла, не удалось описать этот удивительный момент так красочно и подробно: "Самка лежала, распластавшись на поверхности воды, в своей обычной позе, тяжелая и раздутая, выглядя так — все пипы выглядят так, отдыхая, — будто она умерла несколько недель назад и уже частично разложилась. Я внимательно ее оглядел — я все время так делал, чтобы увериться, что она и вправду не умерла,— как вдруг заметил какое-то копошение у нее на спине. Присмотревшись, я увидел крошечную лапу, она торчала прямо из спины жабы и слабо колыхалась, из чего я заключил, что наконец-то настал великий момент. Все утро я то и дело заглядывал в жестянку и отмечал величайшее оживление в карманах: крошечные руки и ноги высовывались из них под самыми невероятными углами, неуверенно помахивали в воздухе и поспешно прятались обратно. Раз из одного кармана показались голова и лапы детеныша, и впечатление было такое, будто кто-то высовывается из люка. Когда я наклонил жестянку, чтобы получше разглядеть его, жабеныш оробел и, отчаянно заработав лапами, снова упрятался в карман. Жаба, казалось, совершенно не замечала ерзанья, дрыганья и толкотни, разыгравшихся на ее пространной спине. Она лежала на воде и была как мертвая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бота о потомстве достигает крайней степени у двух видов австралийск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ботливых лягушек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Rheobatrachus silus и Rheobatrachus Vitellinus. Эти виды — единственные известные животные, вынашивающие свое потомство в желудке. Самка заглатывает икринки после того, как их оплодотворит самец. Через 7–8 недель полностью сформированные лягушата выползают в рот матери, садятся к ней на язык и с него выпрыгивают в окружающий ми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Носатый реобатрахус, заботливая лягушка"/>
          <p:cNvPicPr/>
          <p:nvPr/>
        </p:nvPicPr>
        <p:blipFill>
          <a:blip r:embed="rId1"/>
          <a:stretch/>
        </p:blipFill>
        <p:spPr>
          <a:xfrm>
            <a:off x="914400" y="22860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Источник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айны ХХ века, №14, апрель 2009, Елена АЛЕКСАНДР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Акимушкин И.И. — Мир животных. Птицы, рыбы, земноводные и пресмыкающиеся.  "Мысль", М.,1989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Брэм А.Э. — Жизнь животных. "Терра", М.,199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Я познаю мир: Амфибии. "АСТ", М., 199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ы материалы с                      сайтов: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80720"/>
            <a:ext cx="8229600" cy="43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zoo-eco.zooclub.ru/rept.htm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www.floranimal.ru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www.terrarium1.narod.ru/papka6/index.ht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22096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аламандры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пособность этих хвостатых земноводных отращивать себе лапы, легкие, мозг волновала человечество на протяжении тысячелетий — ее изучали Аристотель, Вольтер, Дарвин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Когда животное теряет часть тела, клетки поверхностного слоя кожи быстро покрывают рану так называемой эпителиальной крышкой, фибробласты разрывают связи с соединительной тканью и образуют на месте раны бластему, из которой формируется новая конечность. К примеру, на новую лапу уходит всего три недели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В конце XX века ученые предполагали, что клетки саламандр похожи на стволовые, то есть могут превращаться в любой орган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Загадка саламандр"/>
          <p:cNvPicPr/>
          <p:nvPr/>
        </p:nvPicPr>
        <p:blipFill>
          <a:blip r:embed="rId1"/>
          <a:stretch/>
        </p:blipFill>
        <p:spPr>
          <a:xfrm>
            <a:off x="0" y="0"/>
            <a:ext cx="4419720" cy="2133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Уменьшение популяций саламандры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onstanti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C:\Мои картинки\Новая папка\Рисунок5.gif"/>
          <p:cNvPicPr/>
          <p:nvPr/>
        </p:nvPicPr>
        <p:blipFill>
          <a:blip r:embed="rId1"/>
          <a:stretch/>
        </p:blipFill>
        <p:spPr>
          <a:xfrm>
            <a:off x="3276720" y="68580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Стихи для детей о насекомых"/>
          <p:cNvPicPr/>
          <p:nvPr/>
        </p:nvPicPr>
        <p:blipFill>
          <a:blip r:embed="rId2"/>
          <a:stretch/>
        </p:blipFill>
        <p:spPr>
          <a:xfrm>
            <a:off x="914400" y="3276720"/>
            <a:ext cx="739152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280" y="3047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ие животные в момент опасности могут сделать себе когти из подкожных кост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фриканская лягушка Trichobatrachus robustus имеет уникальный механизм защиты. В момент опасности у неё ломаются подкожные кости, протыкают кожу и высовываются наружу, словно кошачьи когти. Как происходит обратное «втягивание», пока неизвестно — предположительно, порванная ткань регенерирует, а кости вновь срастаю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Какие животные в момент опасности могут сделать себе когти из подкожных костей?"/>
          <p:cNvPicPr/>
          <p:nvPr/>
        </p:nvPicPr>
        <p:blipFill>
          <a:blip r:embed="rId1"/>
          <a:stretch/>
        </p:blipFill>
        <p:spPr>
          <a:xfrm>
            <a:off x="1905120" y="228600"/>
            <a:ext cx="5029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Самая ядовитая лягуш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Ядовитые свойтва кожных выделений амфибий были известны с давних времен - в частности, Авиценна описывал симптомы отравления жабьим ядом и возможности его использования для лечения некоторых болезней. В древнем Риме также использовали жаб для отравления, хотя и не всегда успешно. Форестус описал историю, когда некая женщина в Риме решила отравить своего мужа, страдавшего отечностью. Для этого она подсыпала ему в еду порошок высушенных и истолченных жаб, но вместо того, чтобы помереть, муж вскоре излечился от отечности. Американские индейцы также очень хорошо знали о ядовитости некоторых лягушек. Они смазывали ядом стрелы для духовых трубок и использовали их для охоты, в том числе и на ягуара - при этом смерть добычи наступала через 4-8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Dendrobates ventrimaculat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8600"/>
            <a:ext cx="640080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иболее токсич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и наиболее ярко окрашенные - хорошо известный в природе факт предостерегающей окраски) амфибии живут в тропических лесах Южной Америки. Их английское название - Poison Dart Frogs или Poison Arrow Frogs - так и переводится - "лягушки отравленных стрел". Латинское название семейства - Dendrobatidae (Древолазы) - отражает другую их характеристику. Эти лягушки благодаря своей фантастической окраске быстро привлекли к себе внимание террариумистов и сейчас активно разводятся в террариума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Phyllobates terribil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28600"/>
            <a:ext cx="601956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1920" y="29718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Древнейшая амфибия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Ichthyostega (первое четвероногое) была найдена в Гренландия, ее предполагаемый возраст 350 000 000 л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Фото"/>
          <p:cNvPicPr/>
          <p:nvPr/>
        </p:nvPicPr>
        <p:blipFill>
          <a:blip r:embed="rId1"/>
          <a:stretch/>
        </p:blipFill>
        <p:spPr>
          <a:xfrm>
            <a:off x="990720" y="2286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31237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амые многочисленные…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од лягушек Eleutherodactylus является самым большим родом среди позвоночных, но широкой публике он мало известен. В него включено более 500 видов, число которых с каждым годом увеличивается по мере описания новых видов. Все они распространены в тропической зоне Америки, ряд видов встречается во Флориде, Техасе и Аризоне. Из них наиболее известна Eleutherodactylus coqui, живой символ Пуэрто Ри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ommon_frog_(rana_temporaria)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04920"/>
            <a:ext cx="66294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3733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зногие, или червяг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Apoda, или Gymnophiona). Сюда относят амфибий, напоминающих земляных червей. У них нет ни хвоста, ни лап. Это — наиболее примитивные по строению формы амфиб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Широкоголовая червяга (Typhlonectes natan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2860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3200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бирский углозу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итая в условиях вечной мерзлоты, этот тритон способен пережить понижение температуры до -20'С в природе и до -30 — -35'С в экспериментальных условиях. Именно этих амфибий находили геологи в ископаемом льду вечной мерзлоты, где углозубы провели по несколько десятков лет! Но стоило заледеневшему тритону растаять и согреться — он тут же принимается ловить мух и пауков как ни в чём не бывало! Как могут сибирские углозубы сохранять жизнь, превратясь, по сути, в льдинки? Оказывается, при минусовых температурах вода в клетках тканей углозуба замещается глицерином, который обладает низкой температурой замерзания и предохраняет клетки от гиб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Сибирский углозуб (Hynobius keyserlingi)"/>
          <p:cNvPicPr/>
          <p:nvPr/>
        </p:nvPicPr>
        <p:blipFill>
          <a:blip r:embed="rId1"/>
          <a:stretch/>
        </p:blipFill>
        <p:spPr>
          <a:xfrm>
            <a:off x="914400" y="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00:07Z</dcterms:created>
  <dc:creator>алена</dc:creator>
  <dc:description/>
  <dc:language>en-US</dc:language>
  <cp:lastModifiedBy>студент</cp:lastModifiedBy>
  <dcterms:modified xsi:type="dcterms:W3CDTF">2010-06-04T13:13:02Z</dcterms:modified>
  <cp:revision>16</cp:revision>
  <dc:subject/>
  <dc:title>Интересные факты о  земноводных</dc:title>
</cp:coreProperties>
</file>